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B8F-D98D-4EB1-BBF5-EB127F16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B9B-F0CA-412D-A679-BE43B02D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27E-7B2F-422E-9E03-64352404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7C6-8220-458B-946B-E4304B2B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FEA6-8246-4DF8-BF5A-CDAC8E2D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5220-912E-4DB7-9FA8-B6AAE7A2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1F79-5907-4DF6-AB18-6125C96B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B38E-04EB-4812-9C07-DBF9DD90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583A-4C30-4EFC-9C2B-963E9697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E7AF-6712-4056-A0BB-3B804926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54CF-0183-4060-9795-EF4B408A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439-C7C0-42B0-A53C-84F04B13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33B8-F75E-4755-B270-E5743384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197E-835C-4983-8CB5-31A9FC48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096D-0040-48EB-B7F8-19847D45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34E2-C2FC-449B-A0E3-C6F9A91D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9163-F18E-4DFD-AC24-ABEB7EC3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FE31-B812-41FD-A539-8BA4C8DB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6D9-E362-480E-A804-6D9322EE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A90-99D8-4328-BB59-4E157FE0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8DD-D9AC-491F-885C-5C876247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BB7-6A79-4F34-AE3C-0CEFA297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D17-128B-4514-90B6-88205D0B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3C5-66FF-4EC3-85D4-B9582EAE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F803-015C-404F-AB77-3C0029925D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1575-1954-4F32-B701-6AD616B4F3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480" y="785520"/>
            <a:ext cx="72738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МИНСПОРТТУРИЗМА РОССИИ</a:t>
            </a: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</a:t>
            </a: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</a:t>
            </a: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ООО "СПОРТИВНЫЙ КОМПЛЕКС "ЮНОСТЬ"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торой эта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II Всероссийской летней Универсиады 2010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жный Федеральны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-11.06.2010 г.                                                               г. Адлер СК «Юность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торой этап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II Всероссийской летней Универсиады 2010 года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Южный Федеральный округ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28760" y="1714680"/>
          <a:ext cx="7499160" cy="3895560"/>
        </p:xfrm>
        <a:graphic>
          <a:graphicData uri="http://schemas.openxmlformats.org/drawingml/2006/table">
            <a:tbl>
              <a:tblPr/>
              <a:tblGrid>
                <a:gridCol w="4619520"/>
                <a:gridCol w="1440000"/>
                <a:gridCol w="143964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й делег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 Н/Д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Ала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и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Хавж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Пеш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Никит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Лыт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 Ляхтин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 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123</cp:lastModifiedBy>
  <dcterms:modified xsi:type="dcterms:W3CDTF">2010-06-11T06:35:27Z</dcterms:modified>
  <cp:revision>14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