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88D-9FC3-4004-BD86-D48A5754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FCA-009C-4798-B48D-33D25D06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58A-DECE-42C0-9DBD-3C9C00A8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DBE-BE2F-4DF4-9646-9A1B7EEC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1B39-94AA-42EB-8605-78627A2E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7731-A605-4D4C-A20E-F17DD17A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D411-9613-4C5C-B62E-B7360B8E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13A1-03FA-4D09-892A-04B1573D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4793-E6AA-45A3-B400-A006D52C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2D7D-45E2-4A84-8043-0F4DB8F3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C7B4-8EDD-4EE9-95F5-8EE42034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697-5B1B-40DB-B745-E74E2DC3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DF7A-61B8-4ADC-8511-70F4DE86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9DFE-E587-4083-8B7F-B61ECEA7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F0AE-5483-4528-9D41-086CA7CC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832C-662C-45BD-9A97-5001FA50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31FA-B5E7-48DA-9C27-2824DB93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0D4-142F-4FE2-BCEC-3F45D443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D6D-F385-47E4-8C23-CE67CCA6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56C-B02D-4443-9DC1-8CAA21EB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494-145E-4ADF-854A-3BA61822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864-7307-4DBB-8EFE-168F1F54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365-F208-4907-8365-FC87987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8D8-ECD7-42A0-867E-582A6449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8645-0C1E-4E82-9119-ED45C4F668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EB9E-1A90-4A67-AF14-EA2D384940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7451640" cy="12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ЙСКОЙ ФЕДЕРАЦИИ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П "ЮЖНЫЙ ФЕДЕРАЛЬНЫЙ ЦЕНТР СПОРТИВНОЙ ПОДГОТОВКИ" (ФГУП "ЮГ СПОРТ")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емпионат России (командный) по легкой атле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5-26.05.2013 г.                    г. Сочи ст. ФГУП «ЮГ СПОРТ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Адлер ст. «Юность»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Чемпионат России (командный) по легкой атлетике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25-26.05.2013 г.                    г. Сочи ст. ФГУП «ЮГ СПОРТ»</a:t>
            </a:r>
            <a:r>
              <a:rPr b="1" lang="ru-RU" sz="1200" spc="-1" strike="noStrike">
                <a:solidFill>
                  <a:srgbClr val="330066"/>
                </a:solidFill>
                <a:latin typeface="Times New Roman"/>
              </a:rPr>
              <a:t>  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Times New Roman"/>
              </a:rPr>
              <a:t>                                  </a:t>
            </a: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г. Адлер ст. «Юность»                                                                         </a:t>
            </a: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00040" y="1857240"/>
          <a:ext cx="7488360" cy="4668840"/>
        </p:xfrm>
        <a:graphic>
          <a:graphicData uri="http://schemas.openxmlformats.org/drawingml/2006/table">
            <a:tbl>
              <a:tblPr/>
              <a:tblGrid>
                <a:gridCol w="3208320"/>
                <a:gridCol w="2087640"/>
                <a:gridCol w="720720"/>
                <a:gridCol w="1471680"/>
              </a:tblGrid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орь Лото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й Целебр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лий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Клоч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дим Солов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ий 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иль 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джер по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 Хавж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бегу -ст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антин Круг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рослав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бегу -фини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йяр Айне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вертикальным 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 Епанеш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катерин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горизонтальным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он Уй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ери по метаниям и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Ланит</cp:lastModifiedBy>
  <dcterms:modified xsi:type="dcterms:W3CDTF">2013-05-26T12:19:37Z</dcterms:modified>
  <cp:revision>40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