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9EB-3227-4D4A-903C-6B03A7C4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950-0486-464B-9EFA-8C51B7E1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EC3-3B24-4857-B374-90536BD2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130-45B8-4C54-86A6-02FC1033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FBA3-C75E-40F9-A987-925B450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5937-FE61-4C6F-89DD-2447F79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F60-E8D7-4052-8FBD-58B40FE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528-E285-4B48-BE5A-65416BE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5CBF-6C18-49BC-AEAB-433BEBF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ED4B-024B-480B-80FE-810D715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E28E-3260-432C-87C5-CA8D186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3F5-EB88-4B75-BFF4-FC13417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73B-F068-4708-B63F-CED03AB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200-D893-436D-9CF3-8B1C584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D56-A745-45A1-887C-18E0F14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14E-91C9-4C61-ABD5-0207137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6474-E082-402C-A251-58E60239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E41-8B5D-4DDD-8E9A-A5A13805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27C-03C9-4A9D-A3B4-8852DCC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B7F-43B2-451B-9884-5B1802F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FAB-6C7D-4AE9-A632-BB0270E6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DF0-45B4-432E-AAE9-FCCFB0A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92E-252E-4CE8-83DF-277B099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573-3DBF-4EDE-9FB6-047F1FF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7BC2-6E47-4591-8EA4-7855299EB9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786C-E915-4AD7-9C31-C71056C863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9.09.2013 г.                                          г. Адлер ст.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74832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техническим ви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ыб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Фро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л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3-09-07T07:57:33Z</cp:lastPrinted>
  <dcterms:modified xsi:type="dcterms:W3CDTF">2013-09-07T08:41:47Z</dcterms:modified>
  <cp:revision>22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