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AA65-EE71-4436-8F75-3448BABE1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4642-06A9-4BAB-A66A-1F69B0B2D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513-F9F8-41A8-8CD5-C0F844FA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F28-9DA2-4272-A014-4F588CBD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DA6-B430-47AA-BB22-2DC4F680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B06-EA0A-456D-8C25-A81132F4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8A85-3DE1-477F-983E-A197385F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999D-5773-4645-A6FA-D4D701CF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8081-897B-475C-B66B-51A3A6AB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0FCE-B964-416C-AF73-CFD32275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6C5C-8F79-437E-B88B-52043513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8DF2-28E7-421E-BD25-3EA0C680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8086-1DED-46EE-A859-C0AD63AE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6DA-2CC0-45E5-9F9A-4111B4AA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CD0E-1BAA-4321-9644-20CFC3A3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77EE-3610-4881-BA5A-ABED78C7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C1A1-4F37-47A9-825E-321E4748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2FAC-2CCD-4427-8145-65B595B2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850C-11DA-4EEC-A20C-619E12ED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BB13-8C6E-4398-B7E6-88B6968A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4EE-CCAA-4FB8-9C3E-1E591704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43D-86D4-42FE-B143-E4184C7C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7D8-9427-4341-AFE2-196F1A52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28D3-CB42-46F1-8446-9567A756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B12-2E77-44C5-9A80-DD0908C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964-7F41-4CAB-8949-6FA507A9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6FE7-2AC4-4BD9-A3A8-A0138D3DA5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DB66-D381-4FA5-B565-29412228E7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840" y="1285560"/>
            <a:ext cx="72154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МИНИСТЕРСТВО ФИЗИЧЕСКОЙ КУЛЬТУРЫ И СПОРТА КРАСНОДАРСКОГО КРАЯ</a:t>
            </a: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ФЕДЕРАЦИЯ ЛЕГКОЙ АТЛЕТИКИ КРАСНОДАРСКОГО КРАЯ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Чемпионат и первенство ЮФО, С-КФО по легкой атле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8-19.01.2014 г.                                                                               г. Краснодар л/а манеж КГУФК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928800"/>
            <a:ext cx="75438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Чемпионат и первенство ЮФО, С-КФО по легкой атлетике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18-19.01.2014 г.                                                                  г. Краснодар</a:t>
            </a:r>
            <a:br>
              <a:rPr sz="14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719360"/>
          <a:ext cx="7499520" cy="4448160"/>
        </p:xfrm>
        <a:graphic>
          <a:graphicData uri="http://schemas.openxmlformats.org/drawingml/2006/table">
            <a:tbl>
              <a:tblPr/>
              <a:tblGrid>
                <a:gridCol w="3471840"/>
                <a:gridCol w="1611360"/>
                <a:gridCol w="746280"/>
                <a:gridCol w="167004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Никит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Смол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кадрам и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Бой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нформации и награж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аксим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Мис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Азизь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 Волош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Ш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4-01-21T07:05:43Z</cp:lastPrinted>
  <dcterms:modified xsi:type="dcterms:W3CDTF">2014-01-21T08:13:51Z</dcterms:modified>
  <cp:revision>25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