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40A-515A-4DFF-92C7-1D93A18C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3C6-0F27-42A5-99AF-2B0624A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49E-7966-4BCD-9974-B44DD9DA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604-FFF2-4447-A160-611EAF2E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903-48A1-4608-9160-39E2CED5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D29-5816-4250-A802-BA8D23C0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4B32-D31C-4B12-AC50-BDD1165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371A-F55D-43B2-9F4D-4FC68AA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3D65-CFFA-4BEA-8590-D632C9C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899-B83F-421F-868C-F93FB287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74DA-DEE2-46E3-B3D0-983080E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3B1-86DA-4E83-A86F-B24381D8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2EA-075C-4877-98D7-190878A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39F7-C9AE-46CB-8731-7EB4D17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C84-5B6E-4F2E-9B1B-278BE53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3195-3FDE-476C-BEFF-5CC5868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9B4-35FB-4128-9B86-7C0BDFB7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6E6-195F-4D4E-B759-3CE1DA38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FB4-FB0E-44EB-B91A-C52C48F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D4A-D7BD-48FE-9FCE-35B0EC1B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FB5-49B4-4B8B-9CC5-5FD6A628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FBD-14C3-4F0F-9C22-464B435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FA4-E39B-40E8-B978-DE7F5CD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430-E48B-4459-B495-AD4BB90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8B0-EFE4-4730-8B1A-9EB33742F9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D68-262F-45EC-9E28-D6D3C7AEC4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ФИЗИЧЕСКОЙ КУЛЬТУРЫ  И СПОРТА КРАСНОДАРСКОГО КРА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Я ЛЕГКОЙ АТЛЕТИКИ КРАСНОДАРСКОГО КРАЯ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й «Кубок губернатора Краснодарского кра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02.2014г.                                                                     г. Краснод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/а манеж КГУФК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330066"/>
                </a:solidFill>
                <a:latin typeface="Times New Roman"/>
              </a:rPr>
              <a:t>Всероссийские соревнования </a:t>
            </a:r>
            <a:br>
              <a:rPr sz="2100"/>
            </a:br>
            <a:r>
              <a:rPr b="0" i="1" lang="ru-RU" sz="2100" spc="-1" strike="noStrike">
                <a:solidFill>
                  <a:srgbClr val="330066"/>
                </a:solidFill>
                <a:latin typeface="Times New Roman"/>
              </a:rPr>
              <a:t>«Кубок губернатора Краснодарского края»</a:t>
            </a:r>
            <a:br>
              <a:rPr sz="2100"/>
            </a:br>
            <a:r>
              <a:rPr b="0" i="1" lang="ru-RU" sz="2100" spc="-1" strike="noStrike">
                <a:solidFill>
                  <a:srgbClr val="330066"/>
                </a:solidFill>
                <a:latin typeface="Times New Roman"/>
              </a:rPr>
              <a:t>СОСТАВ ГЛАВНОЙ СУДЕЙСКОЙ КОЛЛЕГИИ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2276640"/>
          <a:ext cx="8175600" cy="2925720"/>
        </p:xfrm>
        <a:graphic>
          <a:graphicData uri="http://schemas.openxmlformats.org/drawingml/2006/table">
            <a:tbl>
              <a:tblPr/>
              <a:tblGrid>
                <a:gridCol w="4489560"/>
                <a:gridCol w="1973160"/>
                <a:gridCol w="585720"/>
                <a:gridCol w="1127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А. Ала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М. Ники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ое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М. Коломи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2-09T12:09:15Z</cp:lastPrinted>
  <dcterms:modified xsi:type="dcterms:W3CDTF">2014-02-09T12:24:18Z</dcterms:modified>
  <cp:revision>3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