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2C3-CAFE-4241-B781-91EBBC9F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D60-9B08-4980-B1B1-9D6F445C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899-A591-45BD-BDB3-2884CBAA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1BE-2A35-4053-8A6F-4EC0F84A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75D7-825E-465A-A2A2-DCC40176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920-CA84-4005-B9C5-CC467DFB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AE26-E05A-4474-B36F-F385D61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EB6B-CCFD-43BF-B3AF-C12E84FD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787-5C58-4DE7-AC08-B05F0D5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EF78-69DD-40A9-AF87-248F76AF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DEAA-0E4B-4C57-AAF3-2CAF4EA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150-1EAA-4651-83C6-6247F718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B63-9A56-4822-BEFE-053EED3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1DC-BE1A-4FEC-B8B3-95C1A1A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BE9-66B2-4008-BED9-F1D0FB8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1EE6-981E-434A-8AAE-9AA7B374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9F1-AF26-4E7B-909D-7D65DCAE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64B-37B4-4745-B141-F0DBF3AE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D15-ACD1-400B-B32D-63D7E95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1A2-9C1B-4114-AF25-A45AE85B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5D2-F14A-4815-9712-AB0DC09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8AE-1850-4447-B2CE-E7077C2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492-B3E6-4E39-887F-C546E19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FE5-7E9D-4C6D-905C-EDB0236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C444-E88F-4836-8455-B1562BD918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A3BB-EEFF-4056-A557-C20302E410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-23.02.2014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В.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Ш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2-23T08:06:43Z</cp:lastPrinted>
  <dcterms:modified xsi:type="dcterms:W3CDTF">2014-02-23T08:19:18Z</dcterms:modified>
  <cp:revision>4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