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37DC-FB76-4495-9A3C-BC41D0BCD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CD31-92D9-4AA0-88FF-17D83B69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47FB-1816-429B-877E-8DB6B49DD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A39D-48DC-442B-96FE-0BB42362C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C1D0-929B-49FF-9BC6-D3ACBFD70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F05F-2860-41B8-9522-3C1E8C4A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27A3-5CE9-447D-B43A-B8B33469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277D-FBEF-4CE0-B099-21B2D6B0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B464-2F13-4C5E-BEBC-0668B629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BDEF-5576-4289-A92A-6B5CEC70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44BC3-FB70-4A5E-960F-31CEEFAB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FBF6-AEEC-441D-A91D-CEA07FAD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6362-7AF3-46BC-9CAB-94BED2CF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C2FA-C91C-470B-8B3F-A3AE65C6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F55E-251D-49C3-981A-B19E2D27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53AAE-70E3-4A9D-A7C3-E7C298958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0A56-3962-480A-BF6B-F6ED39CA4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FC3A-8C59-4B6D-8784-D5E2D9D3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FB06-76FD-4310-8166-418619BA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AD2E-C7E1-4FC4-8BE2-1A5BA8A3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9679-1D2C-455C-AB5F-FC1CD942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A06B-6C8A-429E-908C-42D77B35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8899-AE7D-48C4-92F4-24993491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242F-01EF-4B86-A2FD-19C1414C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1F73-7663-4AA6-8239-BD8DC316A77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E96E-ABC9-48D3-9127-F5E8AD8306C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480" y="785520"/>
            <a:ext cx="72738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0560" y="3049560"/>
            <a:ext cx="705780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IV Всероссийская летняя универсиада 2014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Южный Федеральный окр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веро-Кавказский Федеральный окр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7-28.04.2014 г.                                                                    г. Адлер СК «Юность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539640" y="1125360"/>
          <a:ext cx="6696360" cy="1151280"/>
        </p:xfrm>
        <a:graphic>
          <a:graphicData uri="http://schemas.openxmlformats.org/drawingml/2006/table">
            <a:tbl>
              <a:tblPr/>
              <a:tblGrid>
                <a:gridCol w="6696360"/>
              </a:tblGrid>
              <a:tr h="2178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ИНИСТЕРСТВО СПОРТА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ЕДЕРАЛЬНОЕ ГОСУДАРСТВЕННОЕ БЮДЖЕТНОЕ УЧРЕЖДЕНИЕ «ФЕДЕРАЛЬНЫЙ ЦЕНТР ПОДГОТОВКИ СПОРТИВНОГО РЕЗЕРВА»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БЩЕРОССИЙСКАЯ ОБЩЕСТВЕННАЯ ОРГАНИЗАЦИЯ «РОССИЙСКИЙ СТУДЕНЧЕСКИЙ СПОРТИВНЫЙ СОЮЗ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ИНИСТЕРСТВО ОБРАЗОВАНИЯ И НАУКИ РОССИЙСКОЙ ФЕДЕРАЦИ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5438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торой этап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IV Всероссийская летняя универсиада 2014 года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Южный Федеральный округ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еверо-Кавказский Федеральный округ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28760" y="1714680"/>
          <a:ext cx="7499160" cy="3895560"/>
        </p:xfrm>
        <a:graphic>
          <a:graphicData uri="http://schemas.openxmlformats.org/drawingml/2006/table">
            <a:tbl>
              <a:tblPr/>
              <a:tblGrid>
                <a:gridCol w="3495600"/>
                <a:gridCol w="1871640"/>
                <a:gridCol w="2131920"/>
              </a:tblGrid>
              <a:tr h="392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ческий делег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Безъязыче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/К 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уд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Максимен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/К 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екрет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 Пеш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/К 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удьи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информации и награжд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 Пеш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/К 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зам. главного секрета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. Кузнец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К 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бе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 Мака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/К 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прыжк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 Грипи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/К Славянск-на-Куба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 Коробей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СК 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41:56Z</dcterms:created>
  <dc:creator>Wl</dc:creator>
  <dc:description/>
  <dc:language>en-US</dc:language>
  <cp:lastModifiedBy>SONY</cp:lastModifiedBy>
  <cp:lastPrinted>2014-04-28T08:07:00Z</cp:lastPrinted>
  <dcterms:modified xsi:type="dcterms:W3CDTF">2014-04-28T09:00:08Z</dcterms:modified>
  <cp:revision>21</cp:revision>
  <dc:subject/>
  <dc:title>ДЕПАРТАМЕНТ ПО ФИЗИЧЕСКОЙ КУЛЬТУРЕ И СПОРТУ  КРАСНОДАРСКОГО КРАЯ ФЕДЕРАЦИЯ ЛЕГКОЙ АТЛЕТИКИ КРАСНОДАРСКОГО КРАЯ КУБАНСКИЙ ГОСУДАРСТВЕННЫЙ УНИВЕРСИТЕТ ФИЗИЧЕСКОЙ КУЛЬТУРЫ, СПОРТА И ТУРИЗМА КАФЕДРА ТЕОРИИ И МЕТОДИКИ ЛЕГКОЙ АТЛЕТИКИ   СПОРТИВНЫЙ КЛУБ  КГУФК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