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62E5-8DCA-4897-A2F9-2E72108F0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2498-093E-4838-9624-19F404A98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A3A-6405-409E-8F31-3E08C7E6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831-78E1-442B-B093-8A026F48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C20-A392-4584-A4F0-412CF9A2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4BF-3A14-493F-94D8-626954DB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CD2A-B3FF-4959-84C2-245626E8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8D8C-D047-4859-8852-728C7CAB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1380-A26B-4D13-AB99-A5F439B8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6341-6977-4AF6-BF7F-A92531F3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1105-26CF-4923-8DFA-EEC442DE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E844-37E8-4688-8EEB-CE8D4C51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F4AA-0FC2-4918-A617-9025B852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EE4-061E-47B3-8EE3-26CCA03A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52DE-3A44-4CEC-8572-ADDCCBA7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D023-7048-45AC-B53E-7BD7981E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2A21-4C65-4088-AD54-D8C82AC3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46FF-5D04-4AC5-BF85-B473773C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8547-9D7A-4869-9335-9D10FF2A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6F1-6FF2-4494-BC53-6A0A08D3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F42-DC46-4D18-899F-397D6093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018-2D4B-4001-9517-B6CC0377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A22-1105-4A7D-84FA-4D22FE8A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965-D196-4BE2-A7B1-15712EA9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07B-7516-4E83-8E6A-FB6ACC1E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386-9243-47DE-93D4-BD3E0D12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353-6484-429C-9D32-1A1DD2D587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1F85-EBCB-49F6-8164-76B3C9F0A8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ЙСКОЙ ФЕДЕРАЦИ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П "ЮЖНЫЙ ФЕДЕРАЛЬНЫЙ ЦЕНТР СПОРТИВНОЙ ПОДГОТОВКИ" (ФГУП "ЮГ СПОРТ")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9-30.05.2014 г.                    г. Сочи ст. ФГУП «ЮГ СПОРТ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Адлер ст. «Юность»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легкой атлетике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29-30.05.2014 г.                    г. Сочи ст. ФГУП «ЮГ СПОРТ»</a:t>
            </a:r>
            <a:r>
              <a:rPr b="1" lang="ru-RU" sz="1200" spc="-1" strike="noStrike">
                <a:solidFill>
                  <a:srgbClr val="330066"/>
                </a:solidFill>
                <a:latin typeface="Times New Roman"/>
              </a:rPr>
              <a:t>  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Times New Roman"/>
              </a:rPr>
              <a:t>                                  </a:t>
            </a: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г. Адлер ст. «Юность»                                                                         </a:t>
            </a: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11280" y="1557360"/>
          <a:ext cx="7377120" cy="4492440"/>
        </p:xfrm>
        <a:graphic>
          <a:graphicData uri="http://schemas.openxmlformats.org/drawingml/2006/table">
            <a:tbl>
              <a:tblPr/>
              <a:tblGrid>
                <a:gridCol w="2232000"/>
                <a:gridCol w="2152440"/>
                <a:gridCol w="1044720"/>
                <a:gridCol w="1947960"/>
              </a:tblGrid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орь Лото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й Целебр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лий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Клоч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ячеслав Жар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- 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ий 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иль 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ина Болдыр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оп Егиазаря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Горба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вр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он Уй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кт-Петер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дрей Жу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ентина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5-30T08:53:17Z</cp:lastPrinted>
  <dcterms:modified xsi:type="dcterms:W3CDTF">2014-05-30T09:44:26Z</dcterms:modified>
  <cp:revision>41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