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138-DFA4-4227-9395-936452AC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DFA-E80D-450F-96F9-969B444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2BD-A407-4C3A-8031-00994C55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A7-C77F-4CB8-88AC-5B482286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276-AB6E-4888-86C7-82788E3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23F-5A77-4038-BA7A-78DE0B17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9584-3895-492F-A776-6BCD1D1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EF60-8ED5-4E54-A1CC-E62F09DD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7A5D-F839-41A7-B8FE-0BDEC7F9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9E2-8B1F-40E6-A852-AEB2949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69F-D163-45C6-AF1A-D81894B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360-FA35-4420-B428-6531A567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F534-51D4-4F4E-A103-5E97C53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1E53-CDAF-4319-A726-9714D2F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8D7B-9921-481B-9F2C-1927085E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73FC-C1C1-4BD6-90B6-D01BF06D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376-41C8-4CB5-A100-4A028387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FFB-A430-49DE-A4AF-C3037036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EE5-E40A-4AF2-A0E8-536E3C1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EBA-9CC2-42F6-8B6A-4069D60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664-15C8-47C3-B897-1F0B9118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CAE-3381-486F-AA5E-B2E88AA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FCD-A357-4D79-AD34-88C5A110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FCA-41F2-4CD7-944B-BCC5DFF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919-2093-4D4B-8C8F-4D56FB463B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E08-56AC-4BBE-B8A7-F712C0FD8F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28760"/>
            <a:ext cx="78930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ФИЗИЧЕСКОЙ КУЛЬТУРЫ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СПОРТА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ФЕДЕРАЦИЯ ЛЕГКОЙ АТЛЕТИКИ КРАСНОДАРСКОГО КРА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2857680"/>
            <a:ext cx="70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5-06.06.2014 г.               г. Краснодар ст. Сормовская 1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Кубань»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66"/>
                </a:solidFill>
                <a:latin typeface="바탕"/>
              </a:rPr>
              <a:t>Чемпионат и первенство ЮФО, С-КФО среди молодежи (92-94 гг.р.), юниоров (95-96 гг.р.), юношей и девушек (97-98 гг.р.)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7499160" cy="3352680"/>
        </p:xfrm>
        <a:graphic>
          <a:graphicData uri="http://schemas.openxmlformats.org/drawingml/2006/table">
            <a:tbl>
              <a:tblPr/>
              <a:tblGrid>
                <a:gridCol w="4329000"/>
                <a:gridCol w="1730520"/>
                <a:gridCol w="143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М. Ники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В. Пет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Ф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А. Ю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А. Азизь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А. Воло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Синиц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В. Ро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4-06-09T08:24:39Z</cp:lastPrinted>
  <dcterms:modified xsi:type="dcterms:W3CDTF">2014-06-09T08:27:59Z</dcterms:modified>
  <cp:revision>2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