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F73-401D-4EB7-88C9-3B2902FF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63D-C75F-4B09-AACC-47F50690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80F-1179-4932-993F-926038DE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337-C1C6-493B-9136-8D47FA8F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6802-B5EB-4500-9900-7C5E8E0E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41AF-7905-4099-BC43-7FE389F6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2F09-8DCA-4D46-A9E4-1CA2A46E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B075-2322-4F60-842B-501033A1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84F5-4DD3-4379-BFD9-174620CC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6EDA-2F3A-4FBE-A7C6-D50A29F5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C59A-ABB4-441F-9B65-52C446EC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F61-ECF1-4E42-BFB2-CBE4C4BF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4DEE-B216-4102-BBE1-1DD69104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2A7E-257F-4B5C-BDD1-C67D4375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611B-8CDD-4E83-90EF-408FF09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BA51-B8E0-4218-8D4F-7AEBDDF6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7FE2-377F-426D-9261-F5D29291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74A-68FD-4275-9481-7897C6CD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F81-F925-44A8-8E1F-A0CE046F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008-7EC1-436E-BE21-127DF236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980-9E61-4B46-98BD-79534289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A1F-9196-45BC-978A-6A8AE8F1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826-CBB7-4A29-B6E9-6704794D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E07-F22E-4574-A847-2DBCFBFA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245F-C1C8-42AD-A0AB-F152DBB575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9B27-CF63-4F7D-88A4-0658DB41F9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ГУ "ЦЕНТР СПОРТИВНОЙ ПОДГОТОВКИ СБОРНЫХ КОМАНД РОССИИ"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эстафетному б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-7.09.2014 г.                                          г. Адлер ст. «Ю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эстафетному бегу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ЛАВНАЯ СУДЕЙСКАЯ КОЛЛЕГИЯ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26920" y="1989000"/>
          <a:ext cx="7777440" cy="3532320"/>
        </p:xfrm>
        <a:graphic>
          <a:graphicData uri="http://schemas.openxmlformats.org/drawingml/2006/table">
            <a:tbl>
              <a:tblPr/>
              <a:tblGrid>
                <a:gridCol w="2725920"/>
                <a:gridCol w="2652840"/>
                <a:gridCol w="450720"/>
                <a:gridCol w="1947960"/>
              </a:tblGrid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Лотор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Клоч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Каплу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Виталь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кад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Фро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л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йнетди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9-05T12:46:10Z</cp:lastPrinted>
  <dcterms:modified xsi:type="dcterms:W3CDTF">2014-09-05T16:20:49Z</dcterms:modified>
  <cp:revision>26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